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82F-7E9C-4D12-80E2-51BC25EE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5A9-7004-47CB-873B-7AD021F4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114-23D7-41A6-A108-A1E00051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831-EC7C-4DAC-B799-78A54E37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628F9-320C-40DD-8752-F70AB3BB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672DA-FCF5-4E56-BF11-A0AA8F4A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4F482-E193-4D51-BDA8-68837641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C036E-56B6-49E7-858C-D3CF5C98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1C23A-53B0-4C56-B04E-FCDEF3AA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33BF3-7830-45BA-87EC-EB118535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F8DC5-6C19-4F6C-A549-4DE1AEB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EBD-11D1-4938-866A-78FF4609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CE169-CBBD-44B0-88CA-3F40A44D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1E660-A014-40BF-9018-0E921A6B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3A362-2D72-47E1-B1A6-99D04956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831AE-62BB-4A89-9DEC-0DB807A2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FFF46-D681-4C77-B101-A6974E73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21F8-0503-45E6-83AD-B7D71B1A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7A36F-6F4E-4243-98E3-E90575B1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4DB7-1AD5-4C49-9728-00CAB8BD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4DBF-48C3-4DC2-999C-6A3435EC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CABB-96C6-4849-9129-AEA9EB71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A1F-E738-4726-8D48-05D21FA9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E4F47-0A42-4BE6-A847-D87743B8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A232-B9FE-481B-A3F5-D122855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C42B-66CE-47CD-91A0-EA3CC581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51E28-E9EC-451A-8EB2-4EC21958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51D0-1D32-487A-9650-06A76D57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D2C8-D35A-4268-975B-D1FE5500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F8BF3-B73E-42CD-894D-B8B72550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67641-35C9-404E-8CA6-E9E2B7CD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1B028-F0B8-4A15-BB67-A25EC2B4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D382A-C5F4-499C-983D-9BDE6402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D80-40F9-4B1F-A1CD-9A87D77F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3A22F-70F7-4674-9993-19EFEB23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8D6B13-ADE7-44D6-A7A9-ECE40C7C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38435-CC4F-4F30-9BDF-3774B50D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A1AE0-B446-4FBF-9608-791D540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9613C8-CFC7-49A1-B06E-D20EBD71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A70F7-5911-440D-8F72-B8D139F1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64292-E708-4FDF-BE2A-4569E5E8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45640-48CF-42DE-971A-72D57259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82851-464D-4005-B6BF-E0003293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4BC83-F52E-49D7-AD7E-F5381B8D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420-57ED-4165-8A63-7C4204A7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84E90-4C92-4495-8C04-9B6990C3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5DB65-AF79-433B-BD56-BC95C54D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3C0D8-2A5C-421C-9A56-C30D108F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67EAC-0F93-4E33-BD60-1CC93234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06FD0-5987-472F-BE1E-99AD8D6C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6B492-7741-4AFD-BF3C-4C1F5301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9D575-67ED-44B1-A15C-CB5CE977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37B67-EE26-488F-A98E-2AFCE620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B6497-1D7A-4F75-A88F-F02C208E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9ED20-9C93-4452-B04B-D9A79695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D7B-F44E-433D-9E9C-EA8BBCF6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99314-C622-4038-8E86-A556B473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DC503-30BE-42F3-BDBB-4A856668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E9BD6-A79B-49A6-9B58-4E245090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B05B3-730B-4027-ACBE-C8A8578E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50807-13B0-4402-B4BF-9DDCBDF6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3A67C-AB1D-4A59-84E3-8E91C52F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2D89E-8377-4CB7-BB55-321C8B49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01433-6473-4E52-ACE9-B2649798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6CA30-78CE-4964-A8E8-A20A5A35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81302-E2E2-4FBB-8BDE-68E60E41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1AF-38BC-4B15-80CC-453C6FE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46E4D-380E-49BC-A668-0588A83B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AD275-9C33-4FCC-827C-566F46D7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6ECFE-9545-437E-9A3C-C3A6816C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C24-4B8D-499A-973A-B66B1051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5F9-357C-46F4-8F18-82565A66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E385-9E11-4F05-A013-053FFD516F84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Łącznik prosty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Łącznik prosty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Elipsa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378C-41D1-4F78-9D44-3075FB0B64EF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Łącznik prosty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B9D7-0CBE-4991-93F3-EDE8B2D9A27E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Łącznik prosty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Łącznik prosty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703A-ABBF-485E-9C53-7176B002E9D3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F709-0522-46FA-9384-B441DF2C4363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8600-5EE9-43F5-9D31-F915BF369E50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ytuł 1" descr=""/>
          <p:cNvPicPr/>
          <p:nvPr/>
        </p:nvPicPr>
        <p:blipFill>
          <a:blip r:embed="rId1"/>
          <a:stretch/>
        </p:blipFill>
        <p:spPr>
          <a:xfrm>
            <a:off x="414360" y="208080"/>
            <a:ext cx="8242200" cy="2797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3413160" y="3713040"/>
            <a:ext cx="2244600" cy="276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57120" y="1535040"/>
            <a:ext cx="100080" cy="1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7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2143080"/>
            <a:ext cx="4357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ffff00"/>
                </a:solidFill>
                <a:latin typeface="Constantia"/>
              </a:rPr>
              <a:t>Parowiec</a:t>
            </a:r>
            <a:r>
              <a:rPr b="0" lang="pl-PL" sz="2900" spc="-1" strike="noStrike">
                <a:solidFill>
                  <a:srgbClr val="ffff00"/>
                </a:solidFill>
                <a:latin typeface="Constantia"/>
              </a:rPr>
              <a:t> - 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to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statek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lub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okręt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napędzany tłokową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maszyną parową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lub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turbiną parową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Pierwszy parowiec wypłynął w rejs w 1807 roku. Początkowo parowce były dość niebezpieczne, gdyż często zdarzały się eksplozje niewystarczająco wytrzymałych kotłów. Udoskonalono je w drugiej połowie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XIX wieku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i wtedy rejsy parowcami stały się regularn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4720" y="2214360"/>
            <a:ext cx="421308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ffff00"/>
                </a:solidFill>
                <a:latin typeface="Constantia"/>
              </a:rPr>
              <a:t>Robert  Fulton </a:t>
            </a:r>
            <a:r>
              <a:rPr b="0" lang="pl-PL" sz="29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-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inżynier amerykański, wynalazca, skonstruował pierwszy statek parow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Studiował malarstwo w Londynie  później zajął się konstruowaniem statków. Na zlecenie Napoleona zbudował w 1800 pierwszy okręt podwodny napędzany ręcznie za pomocą śruby – </a:t>
            </a:r>
            <a:r>
              <a:rPr b="0" i="1" lang="pl-PL" sz="2000" spc="-1" strike="noStrike">
                <a:solidFill>
                  <a:srgbClr val="ffffff"/>
                </a:solidFill>
                <a:latin typeface="Constantia"/>
              </a:rPr>
              <a:t>Nautilus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. W 1802 pierwszy statek parowy konstrukcji Fultona został przetestowany w Angli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Tytuł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t3.gstatic.com/images?q=tbn:ANd9GcR_-_9XYCQJ5VJkX0mYRVyvLgcq9d5iFUBjdxx47QdT5Ypu0l19"/>
          <p:cNvPicPr/>
          <p:nvPr/>
        </p:nvPicPr>
        <p:blipFill>
          <a:blip r:embed="rId2"/>
          <a:stretch/>
        </p:blipFill>
        <p:spPr>
          <a:xfrm>
            <a:off x="281160" y="353880"/>
            <a:ext cx="3419280" cy="1438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213840" y="1785960"/>
            <a:ext cx="4357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00"/>
                </a:solidFill>
                <a:latin typeface="Constantia"/>
              </a:rPr>
              <a:t>Parowóz –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lokomotyw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  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napędzana maszyną parową lub turbiną parową. Para pochodzi z kotła opalanego 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ęglem i drewnem, rzadziej ropą, 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a w parowozach bezogniowych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z zasobnika par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716360" y="1600200"/>
            <a:ext cx="42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00"/>
                </a:solidFill>
                <a:latin typeface="Constantia"/>
              </a:rPr>
              <a:t>George Stephenson</a:t>
            </a:r>
            <a:r>
              <a:rPr b="1" lang="pl-PL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brytyjski     inżynier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który jako pierwszy zaprojektował 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pl-PL" sz="2600" spc="-1" strike="noStrike" u="sng">
                <a:solidFill>
                  <a:srgbClr val="ffffff"/>
                </a:solidFill>
                <a:uFillTx/>
                <a:latin typeface="Constantia"/>
              </a:rPr>
              <a:t>lokomotywę parow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   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  1827  nazwaną Rocket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(Rakieta), uważany jest za "ojca brytyjskich kolei parowych"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Picture 2" descr="http://www.parowozowniawolsztyn.pl/photos/parowozy/Ty45-379.jpg"/>
          <p:cNvPicPr/>
          <p:nvPr/>
        </p:nvPicPr>
        <p:blipFill>
          <a:blip r:embed="rId2"/>
          <a:stretch/>
        </p:blipFill>
        <p:spPr>
          <a:xfrm>
            <a:off x="536400" y="255600"/>
            <a:ext cx="2988000" cy="1585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700" spc="-1" strike="noStrike">
                <a:solidFill>
                  <a:srgbClr val="ffff00"/>
                </a:solidFill>
                <a:latin typeface="Constantia"/>
              </a:rPr>
              <a:t>Telegraf</a:t>
            </a:r>
            <a:r>
              <a:rPr b="0" lang="pl-PL" sz="3700" spc="-1" strike="noStrike">
                <a:solidFill>
                  <a:srgbClr val="ffff00"/>
                </a:solidFill>
                <a:latin typeface="Constantia"/>
              </a:rPr>
              <a:t> - </a:t>
            </a: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urządzenie do przekazywania ,wiadomości przeważnie tekstowych, na odległość</a:t>
            </a: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700" spc="-1" strike="noStrike">
                <a:solidFill>
                  <a:srgbClr val="ffff00"/>
                </a:solidFill>
                <a:latin typeface="Constantia"/>
              </a:rPr>
              <a:t>Samuel Finley Breese Morse</a:t>
            </a: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 - amerykański wynalazca,</a:t>
            </a:r>
            <a:br>
              <a:rPr sz="3700"/>
            </a:b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 malarz, </a:t>
            </a:r>
            <a:br>
              <a:rPr sz="3700"/>
            </a:b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rzeźbiarz, </a:t>
            </a:r>
            <a:br>
              <a:rPr sz="3700"/>
            </a:b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prekursor </a:t>
            </a:r>
            <a:br>
              <a:rPr sz="3700"/>
            </a:br>
            <a:r>
              <a:rPr b="0" lang="pl-PL" sz="3700" spc="-1" strike="noStrike" u="sng">
                <a:solidFill>
                  <a:srgbClr val="ffffff"/>
                </a:solidFill>
                <a:uFillTx/>
                <a:latin typeface="Constantia"/>
              </a:rPr>
              <a:t>telegrafii</a:t>
            </a: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Picture 2" descr="http://t0.gstatic.com/images?q=tbn:ANd9GcRJzNwBpWSr1RjFolwRV_HUu_g0LqybEteCKF_e8WVFprBkoNGD"/>
          <p:cNvPicPr/>
          <p:nvPr/>
        </p:nvPicPr>
        <p:blipFill>
          <a:blip r:embed="rId2"/>
          <a:stretch/>
        </p:blipFill>
        <p:spPr>
          <a:xfrm>
            <a:off x="463680" y="328680"/>
            <a:ext cx="2955960" cy="157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285840" y="1599840"/>
            <a:ext cx="420984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03640" indent="-37800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Constantia"/>
              </a:rPr>
              <a:t>Silnik spalinowy</a:t>
            </a:r>
            <a:r>
              <a:rPr b="0" lang="pl-PL" sz="2800" spc="-1" strike="noStrike">
                <a:solidFill>
                  <a:srgbClr val="ffff00"/>
                </a:solidFill>
                <a:latin typeface="Constantia"/>
              </a:rPr>
              <a:t> —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silnik wykorzystujący 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sprężanie i rozprężanie 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czynnika termodynamicznego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(gazu) d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ytworzenia momentu obrotowego lub siły. Sprężany jest gaz "zimny", a rozprężany — "gorący„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0" y="15238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Constantia"/>
              </a:rPr>
              <a:t>Étienne Lenoir</a:t>
            </a:r>
            <a:r>
              <a:rPr b="0" lang="pl-PL" sz="3200" spc="-1" strike="noStrike">
                <a:solidFill>
                  <a:srgbClr val="ffff00"/>
                </a:solidFill>
                <a:latin typeface="Constantia"/>
              </a:rPr>
              <a:t> </a:t>
            </a:r>
            <a:r>
              <a:rPr b="0" lang="pl-PL" sz="3200" spc="-1" strike="noStrike">
                <a:solidFill>
                  <a:srgbClr val="ffffff"/>
                </a:solidFill>
                <a:latin typeface="Constantia"/>
              </a:rPr>
              <a:t> wynalazca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Constantia"/>
              </a:rPr>
              <a:t> francuski pochodzenia belgijskiego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onstantia"/>
              </a:rPr>
              <a:t>W 1860 zbudował pierwszy użyteczny silnik spalinow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Picture 2" descr="http://www.retrotraktor.pl/artykuly/stacjonarne/1.jpg"/>
          <p:cNvPicPr/>
          <p:nvPr/>
        </p:nvPicPr>
        <p:blipFill>
          <a:blip r:embed="rId2"/>
          <a:stretch/>
        </p:blipFill>
        <p:spPr>
          <a:xfrm>
            <a:off x="420840" y="133200"/>
            <a:ext cx="1871640" cy="144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Telefon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 urządzenie 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stanowiące zakończenie łącza telefonicznego;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gł. części aparatu: mikrotelefon, w którym zachodzi przetwarzanie dźwięków mowy na sygnał elektryczny lub operacja odwrotna, tarcza numerowa lub klawiatura, wytwarzające impulsy wybiórcze, oraz przetwornik sygnału elektrycznego na sygnał przywołujący abonenta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8320" y="2071440"/>
            <a:ext cx="40384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Alexander Graham Bell -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szkocki wynalazca 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telefonu i kilkudziesięciu innych wynalazków telekomunikacyjnych. 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Z zawodu był logopedą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i nauczycielem muzyki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Bell był też współzałożycielem dwóch znanych czasopism Science 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i National Geographic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2" descr="http://upload.wikimedia.org/wikipedia/commons/thumb/1/15/1896_telephone.jpg/200px-1896_telephone.jpg"/>
          <p:cNvPicPr/>
          <p:nvPr/>
        </p:nvPicPr>
        <p:blipFill>
          <a:blip r:embed="rId2"/>
          <a:stretch/>
        </p:blipFill>
        <p:spPr>
          <a:xfrm>
            <a:off x="390600" y="255600"/>
            <a:ext cx="2511360" cy="1725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324000" y="1857240"/>
            <a:ext cx="41716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Żarówka</a:t>
            </a:r>
            <a:r>
              <a:rPr b="0" lang="pl-PL" sz="2400" spc="-1" strike="noStrike">
                <a:solidFill>
                  <a:srgbClr val="ffff00"/>
                </a:solidFill>
                <a:latin typeface="Constantia"/>
              </a:rPr>
              <a:t> – 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elektryczne źródło światła,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 w którym ciałem świecącym jest włókno wykonane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z trudno topliwego materiału.  Drut wolframowy jest umieszczony w bańce szklanej wypełnionej mieszaniną gazów szlachetnych. Włókno osiąga temperaturę ok. 2500–3000 K na skutek przepływu prądu elektrycznego. Wynalazek powstał w połowie XIX w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Thomas Alva Edison</a:t>
            </a: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  – jeden z najbardziej znanych i twórczych wynalazców 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na świecie, przedsiębiorca.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 Dorobek założonych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i administrowanych przez niego laboratoriów to około 5000 patentów,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z których 1093 wystawionych jest na jego nazwisko</a:t>
            </a:r>
            <a:r>
              <a:rPr b="0" lang="pl-PL" sz="1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8" name="Picture 2" descr="http://t1.gstatic.com/images?q=tbn:ANd9GcTB6AplvooOwN6fq5aEAA0NiwmkGeZLsz_6Awzy9fpmZiIB1HWw"/>
          <p:cNvPicPr/>
          <p:nvPr/>
        </p:nvPicPr>
        <p:blipFill>
          <a:blip r:embed="rId2"/>
          <a:stretch/>
        </p:blipFill>
        <p:spPr>
          <a:xfrm>
            <a:off x="676440" y="255600"/>
            <a:ext cx="1798560" cy="172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999800"/>
            <a:ext cx="40384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00"/>
                </a:solidFill>
                <a:latin typeface="Constantia"/>
              </a:rPr>
              <a:t>Radio</a:t>
            </a:r>
            <a:r>
              <a:rPr b="0" lang="pl-PL" sz="30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–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urządzenie zajmujące się przekazywaniem informacji na odległość za pomocą fal elektromagnetycz-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nych</a:t>
            </a: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00"/>
                </a:solidFill>
                <a:latin typeface="Constantia"/>
              </a:rPr>
              <a:t>Guglielmo Marconi </a:t>
            </a:r>
            <a:r>
              <a:rPr b="0" lang="pl-PL" sz="3000" spc="-1" strike="noStrike">
                <a:solidFill>
                  <a:srgbClr val="ffff00"/>
                </a:solidFill>
                <a:latin typeface="Constantia"/>
              </a:rPr>
              <a:t>–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włoski fizyk 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i konstruktor, laureat Nagrody Nobla z dziedziny fizyki w roku 1909 za wkład w rozwój telegrafii bezprzewodowej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Picture 2" descr="http://upload.wikimedia.org/wikipedia/commons/thumb/2/25/Radio_Diora_Pionier_U2_1.jpg/260px-Radio_Diora_Pionier_U2_1.jpg"/>
          <p:cNvPicPr/>
          <p:nvPr/>
        </p:nvPicPr>
        <p:blipFill>
          <a:blip r:embed="rId2"/>
          <a:stretch/>
        </p:blipFill>
        <p:spPr>
          <a:xfrm>
            <a:off x="633240" y="208080"/>
            <a:ext cx="2872080" cy="16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214200" y="1773000"/>
            <a:ext cx="478656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00"/>
                </a:solidFill>
                <a:latin typeface="Constantia"/>
              </a:rPr>
              <a:t>Kinematograf</a:t>
            </a:r>
            <a:r>
              <a:rPr b="0" lang="pl-PL" sz="2600" spc="-1" strike="noStrike">
                <a:solidFill>
                  <a:srgbClr val="ffff00"/>
                </a:solidFill>
                <a:latin typeface="Constantia"/>
              </a:rPr>
              <a:t> 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-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aparat do realizacji i ekranowej projekcj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      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ruchomych obrazów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Słowo "kinematograf" pochodzi od greckich słów: 'kinematos 'gráphein’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Skonstruowali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go w roku 1895 we Francji bracia Louis i August Lumière.. Pierwsza publiczna projekcja ich filmów miała miejsce 28 grudnia 1895 roku w paryskim </a:t>
            </a:r>
            <a:r>
              <a:rPr b="0" i="1" lang="pl-PL" sz="2200" spc="-1" strike="noStrike">
                <a:solidFill>
                  <a:srgbClr val="ffffff"/>
                </a:solidFill>
                <a:latin typeface="Constantia"/>
              </a:rPr>
              <a:t>Salonie Indyjskim Grand Caf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7168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ff00"/>
                </a:solidFill>
                <a:latin typeface="Constantia"/>
              </a:rPr>
              <a:t>Ludwik Lumiere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ff00"/>
                </a:solidFill>
                <a:latin typeface="Constantia"/>
              </a:rPr>
              <a:t>    </a:t>
            </a:r>
            <a:r>
              <a:rPr b="1" lang="pl-PL" sz="3100" spc="-1" strike="noStrike">
                <a:solidFill>
                  <a:srgbClr val="ffff00"/>
                </a:solidFill>
                <a:latin typeface="Constantia"/>
              </a:rPr>
              <a:t>i August Lumiere </a:t>
            </a:r>
            <a:r>
              <a:rPr b="0" lang="pl-PL" sz="3100" spc="-1" strike="noStrike">
                <a:solidFill>
                  <a:srgbClr val="ffffff"/>
                </a:solidFill>
                <a:latin typeface="Constantia"/>
              </a:rPr>
              <a:t>wynalazcy kinematografu. Dwaj synowie fabrykanta artykułów fotograficznych w Lyonie.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Picture 2" descr="http://t1.gstatic.com/images?q=tbn:ANd9GcRAbH_nm-h7AX2OB1QwxPm6xmjxOVHunB2hVNn_b-W5y_kxKqe8"/>
          <p:cNvPicPr/>
          <p:nvPr/>
        </p:nvPicPr>
        <p:blipFill>
          <a:blip r:embed="rId2"/>
          <a:stretch/>
        </p:blipFill>
        <p:spPr>
          <a:xfrm>
            <a:off x="822240" y="255600"/>
            <a:ext cx="1725840" cy="1427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zena</dc:creator>
  <dc:description/>
  <dc:language>en-US</dc:language>
  <cp:lastModifiedBy>Marzena</cp:lastModifiedBy>
  <dcterms:modified xsi:type="dcterms:W3CDTF">2013-08-05T12:54:13Z</dcterms:modified>
  <cp:revision>22</cp:revision>
  <dc:subject/>
  <dc:title>Wynalazki i nobliści</dc:title>
</cp:coreProperties>
</file>